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D3DBD-3AF7-47DA-9592-0AB95C888F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A5BC6-2E20-4D24-AB86-6808E405AD6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1133B-3DC6-4908-9721-DD14A832B07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D378BA4-498D-462D-8A27-9D8CE2E4B39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08E1A99-A12E-4F23-9D9E-17503A7444DD}" type="datetime">
              <a:rPr b="0" lang="fr-FR" sz="1200" spc="-1" strike="noStrike">
                <a:solidFill>
                  <a:srgbClr val="000000"/>
                </a:solidFill>
                <a:latin typeface="Times New Roman"/>
                <a:ea typeface="Arial"/>
              </a:rPr>
              <a:t>31/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C89B6-F6AF-426B-B884-7FF9A43EC3F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95951-8E5A-4F7F-B732-6E5AF81D9E4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DF788D-F00E-45C5-9AAD-0A05E88F2B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BAF7A-FF04-489A-9C54-67FC7CDBC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25E670-7080-4589-9955-BB9F48D07F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E42ED0-4ED3-4104-A1D7-7EEA1552EF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61622-8C23-4CBD-86D6-E2BE04E27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99E89-CA92-41C9-B896-2AD768AF1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3FD8A-6270-4C43-A193-4706F248C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CE81A-7221-4CF2-9993-04AF3C50E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6D04F-61C2-4073-B924-4A23A94E3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F7DE2-4615-408E-ADCF-38DED3A20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4401F-932A-4351-9851-786660AAE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58ACB-5C36-4041-B874-B24ED31A3A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39A68-393A-41E7-A3C7-9B9DA16D81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6411EED-D7BB-4165-B2AF-0CF800A56E9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83921-90BA-47C7-9EE5-06E9F72B1579}"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BB45D-7A53-46F5-BB56-B956DCC74537}"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